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45A-D796-493D-B18F-D146B8FF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A3A-91A2-480E-9D09-743E09CF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5EF-AD10-4203-97FB-B23ABF4D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12C-3377-49DC-8BBA-9FE6758D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140-9BD7-4761-945D-28628317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53D3-0330-444E-9DDB-B01FB263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7FC-3E21-4F2E-85ED-CDCF24F0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4DE7-DFA7-408B-AE7E-9EC5E7E1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B39-1B9B-40FB-AEFC-96E97D1A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C566-1DF5-44DB-96AB-D2B6B2F1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5B52-6F24-4660-BD00-7A343061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949-3878-440E-AAB8-4306BE07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E05F-F355-4FA9-8387-1E5FE53E6A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8" descr="蝴蝶.png"/>
          <p:cNvPicPr/>
          <p:nvPr/>
        </p:nvPicPr>
        <p:blipFill>
          <a:blip r:embed="rId1"/>
          <a:stretch/>
        </p:blipFill>
        <p:spPr>
          <a:xfrm flipH="1" rot="18291600">
            <a:off x="6593040" y="114984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6" descr="荣德基.png"/>
          <p:cNvPicPr/>
          <p:nvPr/>
        </p:nvPicPr>
        <p:blipFill>
          <a:blip r:embed="rId2"/>
          <a:stretch/>
        </p:blipFill>
        <p:spPr>
          <a:xfrm>
            <a:off x="237960" y="76320"/>
            <a:ext cx="156240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0" descr="구름"/>
          <p:cNvPicPr/>
          <p:nvPr/>
        </p:nvPicPr>
        <p:blipFill>
          <a:blip r:embed="rId4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1"/>
          <p:cNvGrpSpPr/>
          <p:nvPr/>
        </p:nvGrpSpPr>
        <p:grpSpPr>
          <a:xfrm>
            <a:off x="0" y="0"/>
            <a:ext cx="9150480" cy="6885000"/>
            <a:chOff x="0" y="0"/>
            <a:chExt cx="9150480" cy="6885000"/>
          </a:xfrm>
        </p:grpSpPr>
        <p:pic>
          <p:nvPicPr>
            <p:cNvPr id="46" name="图片 5" descr=""/>
            <p:cNvPicPr/>
            <p:nvPr/>
          </p:nvPicPr>
          <p:blipFill>
            <a:blip r:embed="rId5"/>
            <a:stretch/>
          </p:blipFill>
          <p:spPr>
            <a:xfrm>
              <a:off x="5400" y="4873680"/>
              <a:ext cx="91450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矩形 10"/>
            <p:cNvSpPr/>
            <p:nvPr/>
          </p:nvSpPr>
          <p:spPr>
            <a:xfrm>
              <a:off x="0" y="0"/>
              <a:ext cx="9145080" cy="218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7e0e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" name="图片 98" descr="海报.png"/>
            <p:cNvPicPr/>
            <p:nvPr/>
          </p:nvPicPr>
          <p:blipFill>
            <a:blip r:embed="rId6"/>
            <a:stretch/>
          </p:blipFill>
          <p:spPr>
            <a:xfrm>
              <a:off x="237960" y="2419200"/>
              <a:ext cx="2808360" cy="37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图片 8" descr="小花.png"/>
            <p:cNvPicPr/>
            <p:nvPr/>
          </p:nvPicPr>
          <p:blipFill>
            <a:blip r:embed="rId7"/>
            <a:stretch/>
          </p:blipFill>
          <p:spPr>
            <a:xfrm rot="1153200">
              <a:off x="7590240" y="5174640"/>
              <a:ext cx="113976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矩形 17" descr=""/>
            <p:cNvPicPr/>
            <p:nvPr/>
          </p:nvPicPr>
          <p:blipFill>
            <a:blip r:embed="rId8"/>
            <a:stretch/>
          </p:blipFill>
          <p:spPr>
            <a:xfrm>
              <a:off x="1932480" y="1530000"/>
              <a:ext cx="7084080" cy="315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50" descr="나뭇잎2"/>
          <p:cNvPicPr/>
          <p:nvPr/>
        </p:nvPicPr>
        <p:blipFill>
          <a:blip r:embed="rId9"/>
          <a:stretch/>
        </p:blipFill>
        <p:spPr>
          <a:xfrm rot="3370800">
            <a:off x="471960" y="1549800"/>
            <a:ext cx="1797120" cy="5889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8" descr="蝴蝶.png"/>
          <p:cNvPicPr/>
          <p:nvPr/>
        </p:nvPicPr>
        <p:blipFill>
          <a:blip r:embed="rId10"/>
          <a:stretch/>
        </p:blipFill>
        <p:spPr>
          <a:xfrm flipH="1" rot="18291600">
            <a:off x="6389640" y="9003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9" descr="구름"/>
          <p:cNvPicPr/>
          <p:nvPr/>
        </p:nvPicPr>
        <p:blipFill>
          <a:blip r:embed="rId11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0" descr="구름"/>
          <p:cNvPicPr/>
          <p:nvPr/>
        </p:nvPicPr>
        <p:blipFill>
          <a:blip r:embed="rId1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구름"/>
          <p:cNvPicPr/>
          <p:nvPr/>
        </p:nvPicPr>
        <p:blipFill>
          <a:blip r:embed="rId13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1052640" y="148896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故事：真实的或虚构的用作讲述对象的事情，有连贯性，富吸引力，能感染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事故：意外的变故或灾祸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指安全方面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上海：地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上：指海边，海面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著名：有显赫名声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名著：有价值的出名著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3" descr=""/>
          <p:cNvPicPr/>
          <p:nvPr/>
        </p:nvPicPr>
        <p:blipFill>
          <a:blip r:embed="rId2"/>
          <a:stretch/>
        </p:blipFill>
        <p:spPr>
          <a:xfrm>
            <a:off x="712800" y="1347840"/>
            <a:ext cx="86025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3" descr=""/>
          <p:cNvPicPr/>
          <p:nvPr/>
        </p:nvPicPr>
        <p:blipFill>
          <a:blip r:embed="rId2"/>
          <a:stretch/>
        </p:blipFill>
        <p:spPr>
          <a:xfrm>
            <a:off x="658800" y="1987560"/>
            <a:ext cx="802152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3" descr=""/>
          <p:cNvPicPr/>
          <p:nvPr/>
        </p:nvPicPr>
        <p:blipFill>
          <a:blip r:embed="rId2"/>
          <a:stretch/>
        </p:blipFill>
        <p:spPr>
          <a:xfrm>
            <a:off x="603360" y="1122480"/>
            <a:ext cx="8004240" cy="5918040"/>
          </a:xfrm>
          <a:prstGeom prst="rect">
            <a:avLst/>
          </a:prstGeom>
          <a:ln w="0">
            <a:noFill/>
          </a:ln>
        </p:spPr>
      </p:pic>
      <p:sp>
        <p:nvSpPr>
          <p:cNvPr id="91" name="直接连接符 6"/>
          <p:cNvSpPr/>
          <p:nvPr/>
        </p:nvSpPr>
        <p:spPr>
          <a:xfrm>
            <a:off x="2340000" y="3068640"/>
            <a:ext cx="50403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8"/>
          <p:cNvSpPr/>
          <p:nvPr/>
        </p:nvSpPr>
        <p:spPr>
          <a:xfrm>
            <a:off x="2627280" y="4221000"/>
            <a:ext cx="3960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10"/>
          <p:cNvSpPr/>
          <p:nvPr/>
        </p:nvSpPr>
        <p:spPr>
          <a:xfrm>
            <a:off x="2340000" y="5300640"/>
            <a:ext cx="5327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3" descr=""/>
          <p:cNvPicPr/>
          <p:nvPr/>
        </p:nvPicPr>
        <p:blipFill>
          <a:blip r:embed="rId2"/>
          <a:stretch/>
        </p:blipFill>
        <p:spPr>
          <a:xfrm>
            <a:off x="658800" y="1122480"/>
            <a:ext cx="80946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3" descr=""/>
          <p:cNvPicPr/>
          <p:nvPr/>
        </p:nvPicPr>
        <p:blipFill>
          <a:blip r:embed="rId2"/>
          <a:stretch/>
        </p:blipFill>
        <p:spPr>
          <a:xfrm>
            <a:off x="512640" y="1122480"/>
            <a:ext cx="838692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3" descr=""/>
          <p:cNvPicPr/>
          <p:nvPr/>
        </p:nvPicPr>
        <p:blipFill>
          <a:blip r:embed="rId2"/>
          <a:stretch/>
        </p:blipFill>
        <p:spPr>
          <a:xfrm>
            <a:off x="523800" y="1085760"/>
            <a:ext cx="8169480" cy="53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3" descr=""/>
          <p:cNvPicPr/>
          <p:nvPr/>
        </p:nvPicPr>
        <p:blipFill>
          <a:blip r:embed="rId2"/>
          <a:stretch/>
        </p:blipFill>
        <p:spPr>
          <a:xfrm>
            <a:off x="542880" y="1139760"/>
            <a:ext cx="813744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3" descr=""/>
          <p:cNvPicPr/>
          <p:nvPr/>
        </p:nvPicPr>
        <p:blipFill>
          <a:blip r:embed="rId2"/>
          <a:stretch/>
        </p:blipFill>
        <p:spPr>
          <a:xfrm>
            <a:off x="585720" y="1103400"/>
            <a:ext cx="80946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105" name="TextBox 3" descr=""/>
          <p:cNvPicPr/>
          <p:nvPr/>
        </p:nvPicPr>
        <p:blipFill>
          <a:blip r:embed="rId2"/>
          <a:stretch/>
        </p:blipFill>
        <p:spPr>
          <a:xfrm>
            <a:off x="811080" y="1311120"/>
            <a:ext cx="77295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3" descr=""/>
          <p:cNvPicPr/>
          <p:nvPr/>
        </p:nvPicPr>
        <p:blipFill>
          <a:blip r:embed="rId2"/>
          <a:stretch/>
        </p:blipFill>
        <p:spPr>
          <a:xfrm>
            <a:off x="731880" y="1189080"/>
            <a:ext cx="7875720" cy="5370480"/>
          </a:xfrm>
          <a:prstGeom prst="rect">
            <a:avLst/>
          </a:prstGeom>
          <a:ln w="0">
            <a:noFill/>
          </a:ln>
        </p:spPr>
      </p:pic>
      <p:pic>
        <p:nvPicPr>
          <p:cNvPr id="58" name="矩形 1" descr=""/>
          <p:cNvPicPr/>
          <p:nvPr/>
        </p:nvPicPr>
        <p:blipFill>
          <a:blip r:embed="rId3"/>
          <a:stretch/>
        </p:blipFill>
        <p:spPr>
          <a:xfrm>
            <a:off x="738360" y="2627280"/>
            <a:ext cx="219996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3" descr=""/>
          <p:cNvPicPr/>
          <p:nvPr/>
        </p:nvPicPr>
        <p:blipFill>
          <a:blip r:embed="rId2"/>
          <a:stretch/>
        </p:blipFill>
        <p:spPr>
          <a:xfrm>
            <a:off x="450720" y="1176480"/>
            <a:ext cx="821232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549360" y="125244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围绕中心，详略得当。选取的事例要围绕一个中心，无论写几件事，都要归结到文章中心上。在写作过程中，该详写的要详写，该略写的要略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整合材料，巧用修辞。将搜集或调查采访得到的材料进行巧妙整合，再现人物的精神风貌。文章可直接引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名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语言或者他人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名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评价来表现人物形象，也可以运用比喻、拟人、排比等修辞手法来刻画人物形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3" descr=""/>
          <p:cNvPicPr/>
          <p:nvPr/>
        </p:nvPicPr>
        <p:blipFill>
          <a:blip r:embed="rId2"/>
          <a:stretch/>
        </p:blipFill>
        <p:spPr>
          <a:xfrm>
            <a:off x="371520" y="1122480"/>
            <a:ext cx="8528040" cy="603000"/>
          </a:xfrm>
          <a:prstGeom prst="rect">
            <a:avLst/>
          </a:prstGeom>
          <a:ln w="0">
            <a:noFill/>
          </a:ln>
        </p:spPr>
      </p:pic>
      <p:grpSp>
        <p:nvGrpSpPr>
          <p:cNvPr id="65" name="组合 2"/>
          <p:cNvGrpSpPr/>
          <p:nvPr/>
        </p:nvGrpSpPr>
        <p:grpSpPr>
          <a:xfrm>
            <a:off x="755640" y="1820880"/>
            <a:ext cx="8136000" cy="5119560"/>
            <a:chOff x="755640" y="1820880"/>
            <a:chExt cx="8136000" cy="5119560"/>
          </a:xfrm>
        </p:grpSpPr>
        <p:sp>
          <p:nvSpPr>
            <p:cNvPr id="66" name="矩形 1"/>
            <p:cNvSpPr/>
            <p:nvPr/>
          </p:nvSpPr>
          <p:spPr>
            <a:xfrm>
              <a:off x="755640" y="1820880"/>
              <a:ext cx="4752360" cy="19227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家乡的“名人”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我们村有一位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名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，他就是我们村的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养猪能手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”——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李大叔。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宋体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李大叔养的猪个个肥头大耳，膘肥体壮，足有百十来斤重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李大叔养猪十分有经验。每天一大早，李大叔便起来打扫猪圈，给猪创造一个良好的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生活环境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。打扫完猪圈后，他便为猪准备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早餐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了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矩形 6"/>
            <p:cNvSpPr/>
            <p:nvPr/>
          </p:nvSpPr>
          <p:spPr>
            <a:xfrm>
              <a:off x="5478120" y="1820880"/>
              <a:ext cx="3413520" cy="51195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800000"/>
                  </a:solidFill>
                  <a:latin typeface="宋体"/>
                </a:rPr>
                <a:t>点评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①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点明家乡的“名人”和他获得的突出成绩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grpSp>
        <p:nvGrpSpPr>
          <p:cNvPr id="69" name="组合 2"/>
          <p:cNvGrpSpPr/>
          <p:nvPr/>
        </p:nvGrpSpPr>
        <p:grpSpPr>
          <a:xfrm>
            <a:off x="755640" y="1125360"/>
            <a:ext cx="8055000" cy="7320960"/>
            <a:chOff x="755640" y="1125360"/>
            <a:chExt cx="8055000" cy="7320960"/>
          </a:xfrm>
        </p:grpSpPr>
        <p:sp>
          <p:nvSpPr>
            <p:cNvPr id="70" name="矩形 1"/>
            <p:cNvSpPr/>
            <p:nvPr/>
          </p:nvSpPr>
          <p:spPr>
            <a:xfrm>
              <a:off x="755640" y="1125360"/>
              <a:ext cx="4753080" cy="10083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它们的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早餐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十分丰盛，不仅有上好的猪饲料，还有一些青菜萝卜呢！李大叔的猪也很乖，从不挑食，不管给它们什么食物，它们都会全部吃完，从不留下任何剩菜剩饭。每天中午，李大叔会请来兽医，为他的猪检查身体，看看有没有病，如果有病，李大叔就让兽医为它们打针开药，直到它们的病好了为止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晚上，李大叔还会搬来一些稻草，为那些猪铺上，让它们睡得暖和些。难怪，李大叔家的猪会养得这么好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矩形 6"/>
            <p:cNvSpPr/>
            <p:nvPr/>
          </p:nvSpPr>
          <p:spPr>
            <a:xfrm>
              <a:off x="5508720" y="1131480"/>
              <a:ext cx="3301920" cy="73148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800000"/>
                  </a:solidFill>
                  <a:latin typeface="宋体"/>
                </a:rPr>
                <a:t>点评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grpSp>
        <p:nvGrpSpPr>
          <p:cNvPr id="73" name="组合 2"/>
          <p:cNvGrpSpPr/>
          <p:nvPr/>
        </p:nvGrpSpPr>
        <p:grpSpPr>
          <a:xfrm>
            <a:off x="755640" y="1341360"/>
            <a:ext cx="8126280" cy="4646520"/>
            <a:chOff x="755640" y="1341360"/>
            <a:chExt cx="8126280" cy="4646520"/>
          </a:xfrm>
        </p:grpSpPr>
        <p:sp>
          <p:nvSpPr>
            <p:cNvPr id="74" name="矩形 1"/>
            <p:cNvSpPr/>
            <p:nvPr/>
          </p:nvSpPr>
          <p:spPr>
            <a:xfrm>
              <a:off x="755640" y="1341360"/>
              <a:ext cx="4752360" cy="19227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每年年底，李大叔便把所有的大猪卖掉，留下小猪仔，等那些小猪仔长大后再卖。李大叔第一年养猪就赚了七八万元钱，没过几年，李大叔就发家致富了。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宋体"/>
                </a:rPr>
                <a:t>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村里的人看到李大叔养猪能发家致富，便去请教李大叔，李大叔毫不犹豫地把他的养猪经验介绍给大伙。大伙听了，都知道了自己也养猪却没有像李大叔那样发家致富的原因：没有掌握科学的方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矩形 6"/>
            <p:cNvSpPr/>
            <p:nvPr/>
          </p:nvSpPr>
          <p:spPr>
            <a:xfrm>
              <a:off x="5468400" y="1347480"/>
              <a:ext cx="3413520" cy="464040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800000"/>
                  </a:solidFill>
                  <a:latin typeface="宋体"/>
                </a:rPr>
                <a:t>点评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②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挖掘他出名的原因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2"/>
          <p:cNvGrpSpPr/>
          <p:nvPr/>
        </p:nvGrpSpPr>
        <p:grpSpPr>
          <a:xfrm>
            <a:off x="755640" y="1143000"/>
            <a:ext cx="8069400" cy="2873520"/>
            <a:chOff x="755640" y="1143000"/>
            <a:chExt cx="8069400" cy="2873520"/>
          </a:xfrm>
        </p:grpSpPr>
        <p:pic>
          <p:nvPicPr>
            <p:cNvPr id="78" name="矩形 1" descr=""/>
            <p:cNvPicPr/>
            <p:nvPr/>
          </p:nvPicPr>
          <p:blipFill>
            <a:blip r:embed="rId2"/>
            <a:stretch/>
          </p:blipFill>
          <p:spPr>
            <a:xfrm>
              <a:off x="755640" y="1143000"/>
              <a:ext cx="4937760" cy="28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矩形 6"/>
            <p:cNvSpPr/>
            <p:nvPr/>
          </p:nvSpPr>
          <p:spPr>
            <a:xfrm>
              <a:off x="5592240" y="1185120"/>
              <a:ext cx="3232800" cy="19227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800000"/>
                  </a:solidFill>
                  <a:latin typeface="宋体"/>
                </a:rPr>
                <a:t>点评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③</a:t>
              </a: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介绍李大叔带领全村人奔小康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④</a:t>
              </a: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作者对李大叔的作为表示敬佩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矩形 7"/>
          <p:cNvSpPr/>
          <p:nvPr/>
        </p:nvSpPr>
        <p:spPr>
          <a:xfrm>
            <a:off x="800280" y="4076640"/>
            <a:ext cx="7921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4960" indent="-80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宋体"/>
              </a:rPr>
              <a:t>总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本文选取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名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是作者家乡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养猪能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”—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李大叔。作者开篇交代了他获得的突出成绩；然后挖掘他出名的原因，表现李大叔勤劳、尊重科学的特点，以及他毫不吝啬自己的养猪经验，带领全村人共同致富，乐于助人的特点；结尾作者发出感叹，表达了对李大叔的敬佩之情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82" name="TextBox 3" descr=""/>
          <p:cNvPicPr/>
          <p:nvPr/>
        </p:nvPicPr>
        <p:blipFill>
          <a:blip r:embed="rId2"/>
          <a:stretch/>
        </p:blipFill>
        <p:spPr>
          <a:xfrm>
            <a:off x="658800" y="1103400"/>
            <a:ext cx="80406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1T01:44:46Z</dcterms:created>
  <dc:creator>Administrator</dc:creator>
  <dc:description/>
  <dc:language>en-US</dc:language>
  <cp:lastModifiedBy>Administrator</cp:lastModifiedBy>
  <dcterms:modified xsi:type="dcterms:W3CDTF">2017-10-31T14:37:36Z</dcterms:modified>
  <cp:revision>49</cp:revision>
  <dc:subject/>
  <dc:title>PowerPoint 演示文稿</dc:title>
</cp:coreProperties>
</file>